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480-15FB-4C8C-AD85-A4FC9A2C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083A-14D5-4447-8959-0C786D5B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956-94D5-403A-A7AF-F77A984B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671-58D5-420D-B4C2-10C4154D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AE2-2319-4978-9C02-C6E64CB2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2F4-9C8E-41F2-8FEE-131BEAF5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279-C48D-4A84-A4E6-DA39806C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596-FF32-4E3E-AAC4-E7D7B37A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6BA-1B7E-47E3-BB50-0A498DB8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5BC-CBF1-4882-8BF1-CBA8B24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0F5-8FAB-40C7-BA7C-C5B29732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B08-7D5F-46A8-BDC4-50E02CCB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C8C4-63D8-4094-9248-96256C14B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eb.mit.edu/invent/iow/donovan.html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313400">
            <a:off x="380520" y="0"/>
            <a:ext cx="4722840" cy="38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ff0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Disposable Diaper</a:t>
            </a:r>
            <a:endParaRPr b="0" lang="en-US" sz="1800" spc="1" strike="noStrike">
              <a:ln w="28440">
                <a:solidFill>
                  <a:srgbClr val="00ff0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42" name=""/>
          <p:cNvSpPr txBox="1"/>
          <p:nvPr/>
        </p:nvSpPr>
        <p:spPr>
          <a:xfrm rot="18946200">
            <a:off x="1523880" y="3276360"/>
            <a:ext cx="41846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ff"/>
                  </a:solidFill>
                  <a:miter/>
                </a:ln>
                <a:solidFill>
                  <a:srgbClr val="3333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Boater"</a:t>
            </a:r>
            <a:endParaRPr b="0" lang="en-US" sz="1800" spc="1" strike="noStrike">
              <a:ln w="28440">
                <a:solidFill>
                  <a:srgbClr val="ff00ff"/>
                </a:solidFill>
                <a:miter/>
              </a:ln>
              <a:solidFill>
                <a:srgbClr val="3333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3680" y="457200"/>
            <a:ext cx="304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Wesam Is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uesday, February 21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Marion"/>
          <p:cNvPicPr/>
          <p:nvPr/>
        </p:nvPicPr>
        <p:blipFill>
          <a:blip r:embed="rId1"/>
          <a:stretch/>
        </p:blipFill>
        <p:spPr>
          <a:xfrm>
            <a:off x="7086600" y="160020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62440" y="617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56876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ff00"/>
                </a:solidFill>
                <a:uFillTx/>
                <a:latin typeface="Arial"/>
              </a:rPr>
              <a:t>Disposable Diaper,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Feb 23, 2012,  http://web.mit.edu/invent/iow/donov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36840" y="563868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040" y="5904000"/>
            <a:ext cx="237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80" y="5751360"/>
            <a:ext cx="237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ck and Fo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-27-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4913280"/>
            <a:ext cx="1387440" cy="1465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rion Donovan didn’t have success right away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Marion"/>
          <p:cNvPicPr/>
          <p:nvPr/>
        </p:nvPicPr>
        <p:blipFill>
          <a:blip r:embed="rId1"/>
          <a:stretch/>
        </p:blipFill>
        <p:spPr>
          <a:xfrm>
            <a:off x="0" y="0"/>
            <a:ext cx="3033720" cy="424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4952880"/>
            <a:ext cx="6172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posable Diape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 23, 2012,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donov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1921320"/>
            <a:ext cx="3809880" cy="1343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RION DONOVAN (1917-199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isposable di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9480" y="685800"/>
            <a:ext cx="58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rion Donovan created this so her baby could stay dry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4267080"/>
            <a:ext cx="18478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Inven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sposable Di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posable Diaper was called “Boa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 diaper covers’ debut came at New York in 19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e diaper was made to keep Marion’s baby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diaper was sold to Keko corp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t was invented in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Inventor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arion Dono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Marion Donovan was born in Fort Wayne, Ind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he had a job as an assistant Beauty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therhood gave Donovan a good reason to revive the innovative instincts of her own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he struggled with her ba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e didn’t have instant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16Z</dcterms:created>
  <dc:creator>install</dc:creator>
  <dc:description/>
  <dc:language>en-US</dc:language>
  <cp:lastModifiedBy>install</cp:lastModifiedBy>
  <dcterms:modified xsi:type="dcterms:W3CDTF">2012-03-09T15:26:51Z</dcterms:modified>
  <cp:revision>8</cp:revision>
  <dc:subject/>
  <dc:title>Slide 1</dc:title>
</cp:coreProperties>
</file>